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EA5A-94DF-4BB7-8347-6AC6DED1428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1DFE-BD18-4A82-BD8C-F7163B57057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E17-6EE0-4D79-A0BE-E09BD378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F44C-E749-4111-B64C-DD91DF9F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FB2-9A74-4190-9DDF-A0976BBC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754-DFC1-4FD4-9704-462E93BC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6E88-7C7C-4770-8A08-AF382B1D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CC6-2132-462D-855E-2FF14389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ED8-2FCD-48A1-8C42-1A8F5ADF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9006-DEF6-4C8F-B1CF-1E8FFAF8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EF7-F7A3-4140-8D8B-37B01DC7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AC7-7302-4E5F-B43B-E5F4147D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F86-BD14-48E4-90AC-D1CF8A92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4AB-3803-4242-9695-B6965720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05EB-7272-4D9E-A1E7-6678E71AECF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2"/>
          <p:cNvSpPr/>
          <p:nvPr/>
        </p:nvSpPr>
        <p:spPr>
          <a:xfrm>
            <a:off x="692280" y="5762520"/>
            <a:ext cx="77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ES: Un percorso di </a:t>
            </a:r>
            <a:r>
              <a:rPr b="1" i="1" lang="it-IT" sz="1800" spc="-1" strike="noStrike">
                <a:solidFill>
                  <a:srgbClr val="000066"/>
                </a:solidFill>
                <a:latin typeface="Arial"/>
              </a:rPr>
              <a:t>media-education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 per una cittadinanza in rete sostenibile e consapev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2"/>
          <p:cNvSpPr/>
          <p:nvPr/>
        </p:nvSpPr>
        <p:spPr>
          <a:xfrm>
            <a:off x="2627280" y="3357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ENTUALE IMMAGINE RAPPRESENT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sellaDiTesto 4"/>
          <p:cNvSpPr/>
          <p:nvPr/>
        </p:nvSpPr>
        <p:spPr>
          <a:xfrm>
            <a:off x="611280" y="620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GO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5"/>
          <p:cNvSpPr/>
          <p:nvPr/>
        </p:nvSpPr>
        <p:spPr>
          <a:xfrm>
            <a:off x="6372360" y="62064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Festival nazionale S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VENEZIA ME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Novembre 2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sellaDiTesto 6"/>
          <p:cNvSpPr/>
          <p:nvPr/>
        </p:nvSpPr>
        <p:spPr>
          <a:xfrm>
            <a:off x="2771640" y="62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ME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C928-D96E-4E86-A4F8-2B3254F0DFD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5"/>
          <p:cNvSpPr/>
          <p:nvPr/>
        </p:nvSpPr>
        <p:spPr>
          <a:xfrm>
            <a:off x="755640" y="3762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1. Motivazione iniz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5F97-56BB-44C0-9F69-4FBF60D7CB5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sellaDiTesto 5"/>
          <p:cNvSpPr/>
          <p:nvPr/>
        </p:nvSpPr>
        <p:spPr>
          <a:xfrm>
            <a:off x="179280" y="16200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2. Identificazione del problema e obiettivi del prog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A quali bisogni del territorio rispond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9010-93F3-4E01-9146-390310F98FD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5"/>
          <p:cNvSpPr/>
          <p:nvPr/>
        </p:nvSpPr>
        <p:spPr>
          <a:xfrm>
            <a:off x="900000" y="206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3. Strategia adott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Come raggiungere l’obiettivo/gli obiettivi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F7FC-0A0E-455F-A5D1-18DE2EB9BCA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5"/>
          <p:cNvSpPr/>
          <p:nvPr/>
        </p:nvSpPr>
        <p:spPr>
          <a:xfrm>
            <a:off x="487440" y="10332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4. Fasi di realizz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Timeline: cosa, chi, quando?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0"/>
          <p:cNvSpPr/>
          <p:nvPr/>
        </p:nvSpPr>
        <p:spPr>
          <a:xfrm>
            <a:off x="457200" y="979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B0BB-7944-4087-8325-C1FC28640A9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sellaDiTesto 5"/>
          <p:cNvSpPr/>
          <p:nvPr/>
        </p:nvSpPr>
        <p:spPr>
          <a:xfrm>
            <a:off x="684360" y="339840"/>
            <a:ext cx="793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5. Traguardi di compete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competenze disciplinari svilupp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9C66-E413-43AD-AD5E-38C186A0A93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2"/>
          <p:cNvSpPr/>
          <p:nvPr/>
        </p:nvSpPr>
        <p:spPr>
          <a:xfrm>
            <a:off x="934920" y="26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6. Risultati raggiu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Benefici sociali/risposte ai bisogni di parten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AD73-75C6-400F-AD72-35C29A3B1E0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sellaDiTesto 5"/>
          <p:cNvSpPr/>
          <p:nvPr/>
        </p:nvSpPr>
        <p:spPr>
          <a:xfrm>
            <a:off x="108000" y="206280"/>
            <a:ext cx="87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7. Valut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Che cosa valutiamo e con quali strumenti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E35D-C0E5-4619-BEF5-D48E0E6885E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5"/>
          <p:cNvSpPr/>
          <p:nvPr/>
        </p:nvSpPr>
        <p:spPr>
          <a:xfrm>
            <a:off x="250920" y="35100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Indie Flower"/>
              </a:rPr>
              <a:t>Eventuale video di presentazione del prog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durata massima: 2 minu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ttangolo 6"/>
          <p:cNvSpPr/>
          <p:nvPr/>
        </p:nvSpPr>
        <p:spPr>
          <a:xfrm>
            <a:off x="971640" y="15526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NK O ALTR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4:04:06Z</dcterms:created>
  <dc:creator>Tiziana_</dc:creator>
  <dc:description/>
  <dc:language>en-US</dc:language>
  <cp:lastModifiedBy>Staff-Prof</cp:lastModifiedBy>
  <dcterms:modified xsi:type="dcterms:W3CDTF">2021-04-23T09:40:29Z</dcterms:modified>
  <cp:revision>31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0</vt:lpwstr>
  </property>
</Properties>
</file>